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B16-870C-4D66-84E5-88C91495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D8C-75CA-4C91-97BD-1E00A82F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405D-A9DF-4BF6-A33D-2285BA64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1C9-6034-48EE-B15E-5AD197F2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E52-D419-47D3-B768-98489084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911-9B83-4418-B644-16AFF357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693C-5C04-4053-8C41-E7DEB39E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49B-70B6-47EF-ACD3-8359CBDF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938-818D-44C5-94A5-6A016CE3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35E-2CBE-4D8D-9805-4350DBE2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66D-514B-4B4F-AE11-3B5A333B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F4F-4A0F-404A-AD85-46679740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2020-A545-4522-B5BB-A0DF6B146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BDC: N2 Base Line Survey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201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s Ababa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‘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IMPLEMENTATION OF RAIN WATER MANAGEMENT TECHNOLOGIES IN FOGERA WOREDA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nowledge and Skills of Actors about  NRM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320" y="1143000"/>
            <a:ext cx="8537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varies across actors (DAs, Woreda Experts, 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Os, ARCs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s were found to have relatively high level of awareness about the different technolog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eda experts/administrators however possess medium and even low level of knowledge for some RWM tec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gardless of the level of knowledge some are either  implemented to a limited extent or not at a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WM Technologies and Actors knowledg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" y="1371600"/>
          <a:ext cx="8686800" cy="5018040"/>
        </p:xfrm>
        <a:graphic>
          <a:graphicData uri="http://schemas.openxmlformats.org/drawingml/2006/table">
            <a:tbl>
              <a:tblPr/>
              <a:tblGrid>
                <a:gridCol w="2171880"/>
                <a:gridCol w="1957320"/>
                <a:gridCol w="2065320"/>
                <a:gridCol w="2492280"/>
              </a:tblGrid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s knowledg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eda expert knowledg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lem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rraces/bu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cro-catch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eck dams/gully rehabil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in water harvesting p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ul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ainage furr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our ploug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6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T IMPLEMENTED IN THE LOWLAND AREAS (I.E., Shaga, Kokit and Dibasifatra (partially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WM Technologies and Actors knowledg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066680"/>
          <a:ext cx="8458200" cy="4708800"/>
        </p:xfrm>
        <a:graphic>
          <a:graphicData uri="http://schemas.openxmlformats.org/drawingml/2006/table">
            <a:tbl>
              <a:tblPr/>
              <a:tblGrid>
                <a:gridCol w="2114640"/>
                <a:gridCol w="2114640"/>
                <a:gridCol w="2114280"/>
                <a:gridCol w="2114640"/>
              </a:tblGrid>
              <a:tr h="79560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s knowledg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eda expert knowledg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lem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60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servation agriculture/zero til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8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 ro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64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-livestock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9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gro-fore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60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zing land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8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ea clo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84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ffore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0280">
                <a:tc gridSpan="4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*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T IMPLEMENTED IN THE LOWLAND AREAS (I.E., Shaga, Kokit and Dibasifatra (partially)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3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pport Received by woreda experts: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ional BoA in terms of material and technical suppor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s such as IPMS, Ethio-wetlands provide training and technical suppor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gional Gov’t is involved in the construction &amp; maintenance of irrigation canals if the command area is large enough to be beyond the woreda capacit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pports Received by 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320" y="990720"/>
            <a:ext cx="8504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A provi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chnical support for DAs, mobilizing farmers, coordinating dev’t tea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ining on water pump usage and mainten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sion of inp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v’t Team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s Information, discusses  problems, mobilizes the community, &amp; conducts monit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oreda as well as kebele Adm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s through community mobilization, coordination and administr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ports Received by DAs…Ct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GOs-IP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put provision(seed, upland rice variety, forage) to improve productivity and marketing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ical support through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s/equips FTCs with the necessary equipments such as TV &amp; Telephon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GOs-Ethio-wetland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orts through interventions in wetland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sion of training on NR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put supply on vegetables, forage towards improving both livelihoods and NRM practi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et ARC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research for livelihood improvement (FREG approac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inings Given to 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received trainings related to NRM by Ethio-wetlands-a local NG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others attended training given by the woreda office of agriculture just for three day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found the training fairly useful(below their expectation) because it was given for too short period to grasp the basic knowledge and learn the desired sk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ended short term training on water harvesting and use and other NRM related trai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evel of Satisfaction with Supports Receive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1320" y="837720"/>
            <a:ext cx="850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ough there are various actors working on NRM interventions and often supporting the DAs at the grassroots level there is differential ratings and limitations of the support being gi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support that WoA provides was rated ‘medium’ in 4 of the 5 kebeles stud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nly in two kebeles were there NGOs and whose support rated ‘medium’ due to limited scope of areas covered &amp; supports giv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degree of coordination among DAs was also discouraging as they are supposed to handle everything that falls under their ‘zone’ regardless of their specialization as if they are ‘Generalists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is assignment constrains their effectiveness, and yet they try to consult each other to fill the skill/knowledge ga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uggestions for effective implementation of RW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1320" y="761760"/>
            <a:ext cx="8504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ctical activity oriented trainings for DAs/experts on RWM for reasonably long period of tim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rience sharing with model/successful kebeles e.g., controlled grazing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ncial as well as material (input) suppor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ing FTC to real field learning site(e.g. modern bee hive, improved forage, water harvesting pond, agro-forestry, etc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ing manuals to be used as guidelines/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sion of improved crop and livestock varieti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and technical support related to pest manageme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ng the FTC itself on resource full area in order for it to be a demonstration s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ecent examples in RW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762120"/>
            <a:ext cx="85345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denur watershed development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bekes irrigation project (developed from natural spring – water user associ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et agricultural research center demonstration site in Kokit kebele (using Rib ri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bile nursery site near Wereta Agricultural Colle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ding structures on rice farm built by farm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icient utilization of residual moisture from retreating water in Shesher wetland, Shaga kebe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wing grass pea on rice farm before the rice is harvested to efficiently utilize residual mois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ors in implementing RW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1295280"/>
            <a:ext cx="804384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ag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bele administ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bele manag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rts of the Wo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RM exp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vestock exp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p exp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rrigation exp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supply &amp; distrib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reda administ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reda office of Water resourc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operatives (irrigation, all-purpose cooperativ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et Agricultural Research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hara Credit and Saving Institution (AC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GOs (IPMS, Ethio-Wetla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DC0F-FAF4-4F95-9062-36B3776FF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3"/>
          <p:cNvSpPr/>
          <p:nvPr/>
        </p:nvSpPr>
        <p:spPr>
          <a:xfrm>
            <a:off x="1676520" y="914400"/>
            <a:ext cx="1523880" cy="6094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ction Pl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4"/>
          <p:cNvSpPr/>
          <p:nvPr/>
        </p:nvSpPr>
        <p:spPr>
          <a:xfrm>
            <a:off x="3505320" y="762120"/>
            <a:ext cx="1676160" cy="7617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unity mobiliz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5"/>
          <p:cNvSpPr/>
          <p:nvPr/>
        </p:nvSpPr>
        <p:spPr>
          <a:xfrm rot="20911200">
            <a:off x="4267080" y="5028840"/>
            <a:ext cx="2133720" cy="9144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89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ing &amp; training farmer surveyo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6"/>
          <p:cNvSpPr/>
          <p:nvPr/>
        </p:nvSpPr>
        <p:spPr>
          <a:xfrm rot="20043600">
            <a:off x="5965560" y="3947760"/>
            <a:ext cx="1600200" cy="9144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775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hedul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val 7"/>
          <p:cNvSpPr/>
          <p:nvPr/>
        </p:nvSpPr>
        <p:spPr>
          <a:xfrm rot="1175400">
            <a:off x="5409720" y="1219320"/>
            <a:ext cx="2057400" cy="9144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5024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ing Active labor force &amp; available resour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8"/>
          <p:cNvSpPr/>
          <p:nvPr/>
        </p:nvSpPr>
        <p:spPr>
          <a:xfrm rot="20181000">
            <a:off x="6324120" y="2514600"/>
            <a:ext cx="1676520" cy="9144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7622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ining farm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981080" y="5257800"/>
            <a:ext cx="1828800" cy="9144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stablishment of quality control te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838080" y="44197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ecution of activi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380880" y="3505320"/>
            <a:ext cx="1524240" cy="6858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llow up &amp; repor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380880" y="1828800"/>
            <a:ext cx="838440" cy="5335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31"/>
          <p:cNvGrpSpPr/>
          <p:nvPr/>
        </p:nvGrpSpPr>
        <p:grpSpPr>
          <a:xfrm>
            <a:off x="308880" y="1067040"/>
            <a:ext cx="7082280" cy="4715640"/>
            <a:chOff x="308880" y="1067040"/>
            <a:chExt cx="7082280" cy="4715640"/>
          </a:xfrm>
        </p:grpSpPr>
        <p:sp>
          <p:nvSpPr>
            <p:cNvPr id="57" name="Right Arrow 13"/>
            <p:cNvSpPr/>
            <p:nvPr/>
          </p:nvSpPr>
          <p:spPr>
            <a:xfrm rot="18703200">
              <a:off x="957600" y="1377360"/>
              <a:ext cx="875520" cy="484560"/>
            </a:xfrm>
            <a:prstGeom prst="rightArrow">
              <a:avLst>
                <a:gd name="adj1" fmla="val 50000"/>
                <a:gd name="adj2" fmla="val 50006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9098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eft-Right Arrow 15"/>
            <p:cNvSpPr/>
            <p:nvPr/>
          </p:nvSpPr>
          <p:spPr>
            <a:xfrm rot="4252200">
              <a:off x="190440" y="2609280"/>
              <a:ext cx="1265760" cy="650520"/>
            </a:xfrm>
            <a:prstGeom prst="leftRightArrow">
              <a:avLst>
                <a:gd name="adj1" fmla="val 50000"/>
                <a:gd name="adj2" fmla="val 50013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946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eedbac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ight Arrow 20"/>
            <p:cNvSpPr/>
            <p:nvPr/>
          </p:nvSpPr>
          <p:spPr>
            <a:xfrm rot="1375800">
              <a:off x="5214240" y="1117080"/>
              <a:ext cx="304560" cy="228240"/>
            </a:xfrm>
            <a:prstGeom prst="rightArrow">
              <a:avLst>
                <a:gd name="adj1" fmla="val 50000"/>
                <a:gd name="adj2" fmla="val 50039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4826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ight Arrow 22"/>
            <p:cNvSpPr/>
            <p:nvPr/>
          </p:nvSpPr>
          <p:spPr>
            <a:xfrm rot="4726200">
              <a:off x="7041960" y="2270880"/>
              <a:ext cx="361440" cy="253800"/>
            </a:xfrm>
            <a:prstGeom prst="rightArrow">
              <a:avLst>
                <a:gd name="adj1" fmla="val 50000"/>
                <a:gd name="adj2" fmla="val 49995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1472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ight Arrow 23"/>
            <p:cNvSpPr/>
            <p:nvPr/>
          </p:nvSpPr>
          <p:spPr>
            <a:xfrm rot="5400000">
              <a:off x="7039080" y="3610080"/>
              <a:ext cx="551520" cy="152280"/>
            </a:xfrm>
            <a:prstGeom prst="rightArrow">
              <a:avLst>
                <a:gd name="adj1" fmla="val 50000"/>
                <a:gd name="adj2" fmla="val 5001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ight Arrow 24"/>
            <p:cNvSpPr/>
            <p:nvPr/>
          </p:nvSpPr>
          <p:spPr>
            <a:xfrm rot="7524000">
              <a:off x="6184080" y="5029920"/>
              <a:ext cx="533160" cy="304560"/>
            </a:xfrm>
            <a:prstGeom prst="rightArrow">
              <a:avLst>
                <a:gd name="adj1" fmla="val 50000"/>
                <a:gd name="adj2" fmla="val 50013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8676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ight Arrow 25"/>
            <p:cNvSpPr/>
            <p:nvPr/>
          </p:nvSpPr>
          <p:spPr>
            <a:xfrm rot="10349400">
              <a:off x="3822120" y="5520240"/>
              <a:ext cx="533160" cy="228240"/>
            </a:xfrm>
            <a:prstGeom prst="rightArrow">
              <a:avLst>
                <a:gd name="adj1" fmla="val 50000"/>
                <a:gd name="adj2" fmla="val 50061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585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ight Arrow 26"/>
            <p:cNvSpPr/>
            <p:nvPr/>
          </p:nvSpPr>
          <p:spPr>
            <a:xfrm rot="12987600">
              <a:off x="2023200" y="5316480"/>
              <a:ext cx="213120" cy="45360"/>
            </a:xfrm>
            <a:prstGeom prst="rightArrow">
              <a:avLst>
                <a:gd name="adj1" fmla="val 34685"/>
                <a:gd name="adj2" fmla="val 50399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321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ight Arrow 27"/>
            <p:cNvSpPr/>
            <p:nvPr/>
          </p:nvSpPr>
          <p:spPr>
            <a:xfrm rot="14814000">
              <a:off x="1194840" y="4126320"/>
              <a:ext cx="323280" cy="325800"/>
            </a:xfrm>
            <a:prstGeom prst="rightArrow">
              <a:avLst>
                <a:gd name="adj1" fmla="val 11667"/>
                <a:gd name="adj2" fmla="val 36028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386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ight Arrow 28"/>
            <p:cNvSpPr/>
            <p:nvPr/>
          </p:nvSpPr>
          <p:spPr>
            <a:xfrm>
              <a:off x="3200760" y="1143000"/>
              <a:ext cx="457200" cy="152280"/>
            </a:xfrm>
            <a:prstGeom prst="rightArrow">
              <a:avLst>
                <a:gd name="adj1" fmla="val 50000"/>
                <a:gd name="adj2" fmla="val 50039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Rounded Rectangle 29"/>
          <p:cNvSpPr/>
          <p:nvPr/>
        </p:nvSpPr>
        <p:spPr>
          <a:xfrm>
            <a:off x="2819520" y="2743200"/>
            <a:ext cx="2361960" cy="9907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plementa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les of the different actors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51920" y="9140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DA rol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buClr>
                <a:srgbClr val="8989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dentifying those household members capable of working;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buClr>
                <a:srgbClr val="8989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organizing them in to development team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buClr>
                <a:srgbClr val="8989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reparing action plan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buClr>
                <a:srgbClr val="8989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preparing checklists for weekly control of activitie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s role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1320" y="1143000"/>
            <a:ext cx="850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annual working days by discussing with community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ing potential resources in the hand of the community and making them ready for us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ing progressive farmers/surveyors and giving them training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ing community to evaluate daily performance of activitie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2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sion of resources and technical advice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s role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lity control and follow up of SWC structure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orting to the district expert on daily basis during campaign (weekly in all other time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ing the election of WUC by the community and following up its undertak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s roles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ta compilation and reporting to WoA office regarding progresses of implement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vincing farmers that the different activities would eventually benefit them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reak down of the plan and inform the dev’t team their share/quota; coordination, &amp; follow up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eda Level Experts: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mobilization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sion of technical support through SMS as well as on job-training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ryout activities, monitoring and follow up and quality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eda cabinet and experts avail themselves on the site and discuss with the community about the action plans/time schedules, set ground rules and provides technical support on the s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erial supply (gabion, sack, spade, ‘doma’, etc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nitoring RWM Inter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eld visit; DAs’ report; taking remedial measures in case of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subject matter specialists (SMS) who would supervise activities at the kebele on monthly ba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up to supervise whether the distributed inputs are effectively used or n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ience sharing and field visits by (woreda supervision team) to supervise &amp; identify progresses &amp; problems . Six kebeles under a team; e.g. last year 75% of farmers from other kebeles visited successful kebe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7:09:32Z</dcterms:created>
  <dc:creator>Asefa</dc:creator>
  <dc:description/>
  <dc:language>en-US</dc:language>
  <cp:lastModifiedBy>Asefa</cp:lastModifiedBy>
  <dcterms:modified xsi:type="dcterms:W3CDTF">2011-05-08T16:58:31Z</dcterms:modified>
  <cp:revision>71</cp:revision>
  <dc:subject/>
  <dc:title>Implementation of RWM Interventions</dc:title>
</cp:coreProperties>
</file>